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569-F946-4743-B28A-A42B346D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1A9C-AF15-4D64-BB1F-E8F5DB06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2F1B-BF73-4306-AA0F-08CEEDB6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71D4-EF45-4573-8E8B-E452D4AA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CC7-59BE-4741-85E5-FB8CDE23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47F-1800-45AC-AFE1-E5E1C5FA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C661-674B-4BE8-9EF7-65E884EC1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8EDD-A455-428B-BD42-61A55F1E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FB39-37FF-4C83-BCE1-6D9E4BA4C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434E-A238-426A-AA01-06B07A1D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D26C-4DF4-4600-80C0-25307D27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E09F-7D30-490C-A9F3-53EE17463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8067-78EC-4861-BC34-A033F97B0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"/>
          <p:cNvSpPr/>
          <p:nvPr/>
        </p:nvSpPr>
        <p:spPr>
          <a:xfrm>
            <a:off x="468360" y="1484280"/>
            <a:ext cx="83930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STRAŽIVANJE POČETNOG STANJA POTREBA ZA 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714240" y="2071800"/>
            <a:ext cx="8001000" cy="40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traž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bavilo proceno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četnog stanja potreba učenika za profesionalnom orijentacijo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jihovih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peten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donesu adekvatnu odluku o svom daljem školovanju i budućem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to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osnovnih škola širom Srbije, obuhvaćenih prvim projektnim ciklusom: 14 MOŠ (sve MOŠ uključene u prvom ciklusu) i 11 BOŠ (slučajan uzora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pitani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930 učenika sedmog (384)  i osmog razreda (5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procen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pitnik za učenike POU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eme: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vembar 201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3"/>
          <p:cNvSpPr/>
          <p:nvPr/>
        </p:nvSpPr>
        <p:spPr>
          <a:xfrm>
            <a:off x="642960" y="1500120"/>
            <a:ext cx="8001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zvori primljenih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714240" y="2643120"/>
            <a:ext cx="800100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ečno, mladi su se obavestili o budućem zanimanju iz 3 od mogućih 8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češć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dica i vršnjac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tinu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u to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i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i informaci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rišćeni izvori informacija: ps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olozi/pedagoz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oji se bave zanimanjem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/instituci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kojima se zanimanje obavl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od petine učenika učenika koristi barem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načaj izvora informa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714240" y="221472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procenjuju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koji informisanost  i različiti izvori informacija imaju za odluku o obrazovanju i  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ro procenj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 pojedinih informaci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kojima 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voljno obavešten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su svesni značaja informacija o obrazovanju i zanimanjima koje se dobijaju 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ktnom kontaktu sa budućim školama i firm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kojima se data zanimanja obavlja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642960" y="1500120"/>
            <a:ext cx="80010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Oblasti rada i kvalitet odluči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14240" y="2143080"/>
            <a:ext cx="800100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rada za koje su mladi zainteresov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adi prosečno bira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d navedene 22 oblasti 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ike razlike u popularnosti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ti - od 3% do 4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ajn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e razlik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opularnosti skoro svih obla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valitet odlučivanja učen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ći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čenika se smatr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im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spravne odluke o školovanju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potrebnih kora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eđ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etvrtine i petine učenika nije sprem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donošenje odluke o budućem školovanju/zanimanj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REZULTATI  - Rodne razlik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714240" y="2033640"/>
            <a:ext cx="8001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informacije iz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e socijalne sredine i med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čac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iz šire socijalne sred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esnije značaja informis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dnosu na dečake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voren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prevazilažen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dni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ereotipa u oblasti zanimanja 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relij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proces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učivan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profesiji i obraz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ovanje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ličite oblast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a je kod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je raznovrsno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o kod dečaka  - manja sloboda izbora i više društvenih ograničenja za devojčic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714240" y="2033640"/>
            <a:ext cx="80010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ci pokazuju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vorno i zrelo zaključivanje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značaju informisanja u oblastima o kojima imaju dovoljno podatak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ju potrebu za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rišćenjem više različitih izvora informacij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sebn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uzeća i institucije u kojima se obavljaju zanim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koji se bave željenim zanimanj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jaka za profesionalnu orijentaci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manje za jednu petinu učenika je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uka za profesionalnu orijentaciju ključn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donošenje informisane odluke o školovanju/zaniman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4296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13"/>
          <p:cNvSpPr/>
          <p:nvPr/>
        </p:nvSpPr>
        <p:spPr>
          <a:xfrm>
            <a:off x="642960" y="1500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ZAKLJUČAK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14240" y="2033640"/>
            <a:ext cx="800100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šće psihologa, pedagoga i nastavnika, kao i uključivanje drugih organizacija, preduzeća i škol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rofesionalnoj orijentaciji učenika n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daleka ne zadovoljava njihove potreb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ojčicam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 potrebna podrška da bi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obodnije i samopouzdanije birali zanimanja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a odgovaraju njihovim sposobnost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1T14:50:13Z</dcterms:created>
  <dc:creator>Jasna</dc:creator>
  <dc:description/>
  <dc:language>en-US</dc:language>
  <cp:lastModifiedBy>WINDOWS XP</cp:lastModifiedBy>
  <dcterms:modified xsi:type="dcterms:W3CDTF">2012-02-13T22:03:20Z</dcterms:modified>
  <cp:revision>36</cp:revision>
  <dc:subject/>
  <dc:title>Slide 1</dc:title>
</cp:coreProperties>
</file>